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DA5C-15FE-45A0-AF42-F4CDB957C0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F924-C8E4-4FED-8CA2-F81269CBFD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6068-994B-41E1-B184-2DF0A2DBB5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7DD2-C086-4116-BADE-DBEE173883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49BF-0747-4234-A093-A1B88844FB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5D89-C76B-4DC1-BB8B-9ED7248998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2D0C-2585-4EBD-8F86-D26940B8C9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0D5-054A-4C1F-9A17-C75E342210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43FF-DF15-4F61-8D90-3507BF52BE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FF0-A63F-4D20-9337-2CECB3DCD5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0CF4-63DA-44C3-ABFE-3414277E2E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2CC4-3ECF-4BF6-89F7-EF8483AFA8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FABA-7AC3-4EDA-893F-5A445E4B6D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327-95B0-4216-8151-54ABDCADBE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17DC-CB06-4EE0-BF79-D6F1C2EB9B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0FDB-6A33-478F-A8BF-61AC99D7FB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929-972E-4E2F-AA15-21B6792C2B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47C-B9EB-48D2-8709-6A12011800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337-D4C8-4EBD-99CC-7E5046631C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A93-A3D1-46AA-BFEA-D437C29BA8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934B-A385-4946-B1E4-81F455A695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6776-1882-4104-A74B-D7FA5E86C8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CD7A-CC7B-4AAD-ADA5-87D4703F39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A83E-BACD-49DE-B2B1-BFC76949EF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8E2E-4EEF-4520-A0C2-2D32B6FF5D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E48A-3833-4FE1-BD32-C640250A27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CE1C-B6F0-4F75-8779-E2000BF3C3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D896-AB71-4043-AD27-52E5944CCA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54C7-DC94-4E5B-AEB3-86EF6653A3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8802-AD17-497F-B2AC-1B7A6B517D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5A22-A9EA-446D-830C-1996C648A8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B1F9-B000-41C4-8CA1-A0CD742F1E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CD5B-C33C-4EB7-852F-C335C086C1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EF62-4475-4E44-87B5-3804CAAC71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D0C7-B259-4824-9C6A-F51B1CFB67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F321-19A2-4FCB-B864-1797FA54D4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50B5-1160-4051-8562-1DD8DFEE47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2251-21BB-4B30-AAA8-FF6A7544D7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3E74-4C1F-4369-985D-1F5EEF8A9B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E16D-D99E-42A5-9007-3D4FE0BE7F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4712-068B-421F-99AF-5AA4CC88B0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9851-68F4-4F94-B0A5-10AFC1DC0A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82A-3432-4E5D-B4E3-72A464A1A2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6760-E9BB-4C1B-B3FB-D673B18C0D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8897-DB5C-426D-AFD8-2591BA2177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DBA-F218-464F-8B8F-A6CA5631BE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6F17-9CDD-4E08-8139-6346BBA515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4EFD-8DDA-4A50-9E14-865A752BAE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911-9E36-4E61-B926-EE3A1016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2AE-957E-4D80-9704-A080526C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877-0BCC-46F5-9056-E0501DAE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6A3-EF94-4C8A-8D1A-37E4DA95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59A-AB2F-4139-BD84-46E256B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CDF-7CCD-4BAD-BCCE-89A08030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671-6619-4FF3-8E5B-1BB4A16B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4FB-320D-4B42-AA2D-95FF73D2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D06-6091-4151-A7D5-3BD123C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901-2418-4508-A26B-E3C5E39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C4F-C836-44FC-B2D5-6376F40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208-AAC0-4F55-8F0D-C31E6B2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08FC-208E-4B7C-A6B6-66AEA4C7D975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저녁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pé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모시다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동반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67692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kāi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처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약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ò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应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ggā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54400"/>
            <a:ext cx="6381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8500" spc="-1" strike="noStrike">
                <a:solidFill>
                  <a:srgbClr val="000000"/>
                </a:solidFill>
                <a:latin typeface="굴림"/>
              </a:rPr>
              <a:t>해야 한다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锻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500" spc="-1" strike="noStrike">
                <a:solidFill>
                  <a:srgbClr val="000000"/>
                </a:solidFill>
                <a:latin typeface="Arial"/>
              </a:rPr>
              <a:t>duànli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31000"/>
            <a:ext cx="638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800" spc="-1" strike="noStrike">
                <a:solidFill>
                  <a:srgbClr val="000000"/>
                </a:solidFill>
                <a:latin typeface="굴림"/>
              </a:rPr>
              <a:t>단련하다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锻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500" spc="-1" strike="noStrike">
                <a:solidFill>
                  <a:srgbClr val="000000"/>
                </a:solidFill>
                <a:latin typeface="Arial"/>
              </a:rPr>
              <a:t>duànli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단련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词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íd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动物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500" spc="-1" strike="noStrike">
                <a:solidFill>
                  <a:srgbClr val="000000"/>
                </a:solidFill>
                <a:latin typeface="Arial"/>
              </a:rPr>
              <a:t>dòngwùyuán</a:t>
            </a:r>
            <a:endParaRPr b="0" lang="en-US" sz="7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물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老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h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호랑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hǎoxià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마치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인 것 같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中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ōngwǔ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낮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保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oh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보호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文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wénhuà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문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遗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ch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虐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nüèd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학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动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òngwù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á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이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鼻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ít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콧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体育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ǐyùguǎ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체육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d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比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s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경기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우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生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ēngcí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단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롭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낡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오래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美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l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름답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틀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安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ānjì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득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볍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面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iàntiá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무겁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뚱뚱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u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어지럽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얼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胳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ēb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허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爱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àih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취미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意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父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q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버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咳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éso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침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整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ěngtiā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종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56:56Z</dcterms:created>
  <dc:creator>System</dc:creator>
  <dc:description/>
  <dc:language>en-US</dc:language>
  <cp:lastModifiedBy>System</cp:lastModifiedBy>
  <dcterms:modified xsi:type="dcterms:W3CDTF">2014-01-28T00:49:38Z</dcterms:modified>
  <cp:revision>9</cp:revision>
  <dc:subject/>
  <dc:title>슬라이드 1</dc:title>
</cp:coreProperties>
</file>